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2.jpeg" ContentType="image/jpeg"/>
  <Override PartName="/ppt/media/image32.png" ContentType="image/png"/>
  <Override PartName="/ppt/media/image7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E94-4A2E-4790-9E1F-0ED3C7D6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2D1-5ACA-4110-9F56-0939AEC0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328-42C9-4EEA-BE3C-D55A5C98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165-2F55-48E2-ADFF-D9348B24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396-CDF6-453E-B0FB-2809926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668-6F6C-4B7D-B3A9-D280A5F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99A-5861-4F17-93D5-D452A20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4D2-CA57-40A9-BE5F-265382B7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A0D-37BE-4495-95FD-773AAFD7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119-F133-4CD2-8F47-8FB7B23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D2F-09E3-479A-9774-096159B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1A9-312C-4E0E-B26C-2809251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229E-E86F-43CD-B224-7763EBC80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e Americans were the people who lived in America before peopl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untries cam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1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ny Native American culture groups built their homes in villages or cit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e are the remains of an anc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asazi cliff vill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245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culture groups, like the Plains Indians, wer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omad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50292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could not live in one place.  They had to move around to follow the buf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00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685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of each region also affected how each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 got its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0384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Eastern Woodlands were very lucky.  That region had forests, lakes and rivers, a nearby ocean, and good climate.  These Native Americans could farm, hunt, and fish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04624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24280" y="2133720"/>
            <a:ext cx="1863720" cy="169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24480" y="2286000"/>
            <a:ext cx="1692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672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no forests in the Southwest region.  The land was rocky and unev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41972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mesas, or large rocks with flat tops.  The Indians who lived in this region were farmers.  They planted their crops on the tops of m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4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1055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mountain region were known as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gatherer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514600"/>
            <a:ext cx="670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few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is region.  These Native Americans gathered acorns, seeds, and fruits.  They also dug up plant roots to eat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117972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53080" y="838080"/>
            <a:ext cx="144324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1749240" cy="172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1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8380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from the Northwest Coast hunted sea animals in the Pacific Ocea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724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salmon i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ivers for them to 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also hunted animals in nearby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00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1911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ffalo were a natural resource in the Plains region.  The meat was used for foo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kins were used for shelters and clothing.  The bones were used for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46160" y="660240"/>
            <a:ext cx="52167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8380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hysical surroundings of the regions affected each culture group’s wa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fe in other ways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as much clay in the Southwes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that lived in this region used the clay to make beautiful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86120" y="207972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762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Northwest Coast region had many forests.  The Native Americans in th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gion used wood from the fores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carve tall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totem po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029200"/>
            <a:ext cx="6629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arvings on each totem pole told about a family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400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9144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029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took care of the earth and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d what the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6880" y="1600200"/>
          <a:ext cx="37832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7832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6858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buffalo in the Plains region.  Native Americans who l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is region were hun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1911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lains Indians had special ceremonies before big hunts.  They danced to the music of drums.  They thought this would bring them good luck on the h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2068560" cy="229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19670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99072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47242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6858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ntain region were expert basket weav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257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made beautiful baske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ut of grasses and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662120"/>
            <a:ext cx="4724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hysical surroundings affected how the Indians traveled, too.  All Indians walk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3623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ins and Southwest Indians got horses from Spanish explo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1480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in the Eastern Woodlands, Northwest Coast, and California Intermountain regions used ca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21760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2332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47242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 culture groups had different ways of life due to their different physical surroundings an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6858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t’s review.  We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were the first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057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90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124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lived in different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7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had different h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got foo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99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9907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 - Spotted Tail’s fami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stern History/Genealogy Department, Denver Public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9718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4 – Fruit gather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rthwestern University Library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dward S. Curtis's 'The North American Indian': the Photographic Imag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2001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ttp://memory.loc.gov/ammem/award98/ienhtml/curthome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meet their need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49568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re things in nature that peopl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ff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2503440"/>
            <a:ext cx="1447920" cy="84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52800" y="2503440"/>
            <a:ext cx="1246320" cy="94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61000" y="2503440"/>
            <a:ext cx="15206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743880" y="250344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people in 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have the same way of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1480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a group of people who live in the same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reg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si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fferent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533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343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s were mostly des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regions had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657600" cy="249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84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932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had oceans nearb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72428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culture group used the natural resources in its region to meet its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086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32767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near deserts used clay or stones to build their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609480"/>
            <a:ext cx="663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r this reason, Native American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s had different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1911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on the Plains used buffalo skins to make their hom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10552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lived near forest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built their homes of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514600" cy="171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13622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4:58Z</dcterms:created>
  <dc:creator>LAyers</dc:creator>
  <dc:description/>
  <dc:language>en-US</dc:language>
  <cp:lastModifiedBy>eunice.skubal</cp:lastModifiedBy>
  <dcterms:modified xsi:type="dcterms:W3CDTF">2012-03-05T23:26:33Z</dcterms:modified>
  <cp:revision>115</cp:revision>
  <dc:subject/>
  <dc:title>Native Americans</dc:title>
</cp:coreProperties>
</file>